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EC6-DA68-4124-90B1-0C6D80ED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2BD-2C68-4B6D-A4FB-5B94D8EE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49E-FF72-453D-A179-9343460F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6143-8011-4F9A-B5A1-B0DAA145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38E-D222-4239-98B9-F6D97937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BBF-2A8C-42E9-AC6C-FDCB9D12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3D6-19D1-4DEF-ACCD-3F71551B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AB0-BD40-4D8B-B0BE-A21EBE2C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D7B-185A-4580-8FC5-60DA1066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F4D-F93B-4E78-946E-CA13686C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C6A-3AEB-4CE6-83DA-88C14E2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7A4-16A6-4EE3-8CE6-FB85B7FC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4D6A-9F03-4739-A922-36C8EEA51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04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10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32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54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55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8800" y="876960"/>
            <a:ext cx="8079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11-12T16:03:41Z</dcterms:modified>
  <cp:revision>698</cp:revision>
  <dc:subject/>
  <dc:title>Sin título de diapositiva</dc:title>
</cp:coreProperties>
</file>